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032742"/>
        <c:axId val="9020104"/>
      </c:barChart>
      <c:catAx>
        <c:axId val="920327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0104"/>
        <c:crosses val="autoZero"/>
        <c:auto val="1"/>
        <c:lblAlgn val="ctr"/>
        <c:lblOffset val="100"/>
        <c:noMultiLvlLbl val="0"/>
      </c:catAx>
      <c:valAx>
        <c:axId val="90201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327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8932-05B6-42A0-A1E9-7B1EC451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0D83-C833-4202-AD0E-F2857019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3BAE-43F1-4BF2-AF49-A66229DC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7DEE-F6CD-4343-8527-75EABD1E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4A48-CD59-4DAC-9909-02DF918C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F407-9831-4315-9357-087F8727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2609-C02A-4052-BCD5-D7EE8660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937-CE59-4E75-82B0-99CDC944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093A-F78F-44A4-834B-CBAD4660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A903-34C4-46FC-B64B-D798106F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9E46-9C02-4F9F-83D9-B0710E18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9712-4099-4364-9C95-D8D30320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77201-F180-45A2-84BB-CBF84C95C0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