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20383"/>
        <c:axId val="81620353"/>
      </c:barChart>
      <c:catAx>
        <c:axId val="50120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20353"/>
        <c:crosses val="autoZero"/>
        <c:auto val="1"/>
        <c:lblAlgn val="ctr"/>
        <c:lblOffset val="100"/>
        <c:noMultiLvlLbl val="0"/>
      </c:catAx>
      <c:valAx>
        <c:axId val="81620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20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292-F528-4A61-8C45-FC8F9684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459-CC70-448F-9D7E-15AC4C37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DA0-632C-4AB0-BCC4-26F809C0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9CE-86FA-4303-AC79-ED5E9C39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BCF-0A64-45A1-A3D7-66FB279A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1BB-F37F-4E3B-B1C1-A7379DE8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F75-7595-4392-9496-6F08E279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01F-290D-4677-860E-4CD26F38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DE9-D945-49BE-9FD3-E6A1F2E8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7E0-0041-4AB2-9013-D2681717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0F5-EE85-4261-9682-1D31FAD2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EB3-8FE2-469E-8500-06546C3E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EF6C4-2A1A-4F76-B656-9829E6D338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