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1462505"/>
        <c:axId val="11133854"/>
      </c:barChart>
      <c:catAx>
        <c:axId val="6146250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133854"/>
        <c:crosses val="autoZero"/>
        <c:auto val="1"/>
        <c:lblAlgn val="ctr"/>
        <c:lblOffset val="100"/>
        <c:noMultiLvlLbl val="0"/>
      </c:catAx>
      <c:valAx>
        <c:axId val="1113385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46250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F3EA0-4F58-4755-B115-3358FFC37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0076C-D5E6-45D5-9127-556426591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09E3D-3868-4B7F-88B4-E168EA624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41918-E945-4059-A058-374843B2B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59E2F-E1C6-4FDD-9ED8-D31E57EFF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937FE-E107-4039-9338-815EA7708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F42FA-3B3C-40F3-BD40-2D629ECEA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36EEB-9D8D-4FB0-BDB8-AD9763F96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FCC64-9289-4846-9D19-4F1E5C16C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3318E-2C5C-4FE8-A411-577598807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0C588-1770-45F7-AF08-74E6E5670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082AE-BFF0-4449-999A-4AB9BEAF6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1D822D-F5AD-4479-A80A-DDBB1C2288F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