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56792"/>
        <c:axId val="28266604"/>
      </c:barChart>
      <c:catAx>
        <c:axId val="78856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66604"/>
        <c:crosses val="autoZero"/>
        <c:auto val="1"/>
        <c:lblAlgn val="ctr"/>
        <c:lblOffset val="100"/>
        <c:noMultiLvlLbl val="0"/>
      </c:catAx>
      <c:valAx>
        <c:axId val="28266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56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E48-3C78-4AD1-BD94-9A28EF9D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663-D80D-4913-ABB1-C695FF35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B34-CAA6-4903-9A3E-EF006B82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917-CD17-4B6B-A9CF-82601951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614-8849-4E0D-AACA-7DA4CD76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2BC-0001-47BE-A2BE-711054F4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1EA-3BB2-42B3-BD2B-7EEB4D84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CB7-4A2E-4508-89FD-C69C1B01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65F-F6C3-41EC-8FC8-D7D9FEE0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E3E-97F4-4DF0-AAF0-F4173F8E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7BD4-6024-40B0-8211-3A59A7C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445-1940-4BC2-B060-E5B855A2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B88CC-F4BE-4EE2-9C04-3AB43F10E1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