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992975"/>
        <c:axId val="70300332"/>
      </c:barChart>
      <c:catAx>
        <c:axId val="349929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300332"/>
        <c:crosses val="autoZero"/>
        <c:auto val="1"/>
        <c:lblAlgn val="ctr"/>
        <c:lblOffset val="100"/>
        <c:noMultiLvlLbl val="0"/>
      </c:catAx>
      <c:valAx>
        <c:axId val="703003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929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6380-0713-449F-8051-9ECE61164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D5F1-D62A-4CB3-B852-9CE937BA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9171-7924-45A7-9637-6E5C15E48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5BE8-9222-4772-9B99-FA94C0D67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0D0B-4C8C-4DED-9B32-D68009CA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0774-90AC-419E-9C28-6FF29BB0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B053-3D8F-44E8-80FD-C6BB9F27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A835-2E35-480E-8CA8-1FDD8FAE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EAEB-BF55-47C6-BF51-971B73B6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8543-64C2-4E45-829D-3F314F72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CAD9-9AA7-47EA-BED7-CD9FD754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777E-118F-4EE2-8132-2DEC16E3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CB377-E67B-44ED-8778-3B1716476D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