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980"/>
        <c:axId val="76697609"/>
      </c:barChart>
      <c:catAx>
        <c:axId val="831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97609"/>
        <c:crosses val="autoZero"/>
        <c:auto val="1"/>
        <c:lblAlgn val="ctr"/>
        <c:lblOffset val="100"/>
        <c:noMultiLvlLbl val="0"/>
      </c:catAx>
      <c:valAx>
        <c:axId val="76697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CE2-94B5-4589-81A9-C9499869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B8C-9543-4858-8E91-EB94DFF1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26E-14EB-42B5-8630-CF553DB0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802-A24A-478C-A03F-065F32FB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340-D209-4ED9-B26B-463D8863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7D0-6FE4-4E75-9E80-EA1E0F77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583-95E2-4417-B7D8-BE596EFA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EAA-970E-4397-9802-5F57F8B0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008-D075-4056-8C8D-41BE0370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850-7918-4C10-9C85-CCB49B70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DCB-FE8D-4DB5-A0FD-D685FBE0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D3B-16CC-4E7E-B569-CEDA3F6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20785-F351-45C9-BA24-D31286F368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