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78846"/>
        <c:axId val="45430842"/>
      </c:barChart>
      <c:catAx>
        <c:axId val="50978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30842"/>
        <c:crosses val="autoZero"/>
        <c:auto val="1"/>
        <c:lblAlgn val="ctr"/>
        <c:lblOffset val="100"/>
        <c:noMultiLvlLbl val="0"/>
      </c:catAx>
      <c:valAx>
        <c:axId val="45430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78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0A2-1375-4777-8716-3F709EFB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E4C-FF9A-4952-A3B3-4D34AB0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00A-1101-4260-8855-8A95AA7A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5FD-71F0-4F97-B546-85BD1263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7BF-93E2-43B9-84D3-E9699A53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05F-0216-42B1-B50F-1B7692BA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335-100F-48D9-A851-5F119C84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D0C-C885-4CC0-A4AF-E4ED298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C32-4D47-46D2-8B10-7C10A366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D34-E41A-402E-BC0B-612D06F5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E50-02EB-41AD-8DED-E988909D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48C-1753-406E-8A6D-F6BE366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12BED-4563-47A9-B732-E0928B6D5D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