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286574"/>
        <c:axId val="73846775"/>
      </c:barChart>
      <c:catAx>
        <c:axId val="59286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46775"/>
        <c:crosses val="autoZero"/>
        <c:auto val="1"/>
        <c:lblAlgn val="ctr"/>
        <c:lblOffset val="100"/>
        <c:noMultiLvlLbl val="0"/>
      </c:catAx>
      <c:valAx>
        <c:axId val="73846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86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58B-6390-4E6D-99D1-5D5B8FF5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FEC-4577-4077-9461-AA63CA1D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CB9-E55D-49FA-AB27-12A30EE6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0CE-DC8E-4950-8424-4783EF93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601-DCC6-438E-ACE4-F861B2B8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829-4A08-4AFB-883E-E6E38600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B46-83F0-4B28-9705-56FBDBB7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0FD-7903-4363-A524-9C959A9D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8C4-5326-4EF7-87DC-AB51B8C3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AB3A-3B87-4966-8453-EB793CCD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366-B7A8-41EB-91A7-6807ADAA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191-CE26-41AF-BAF7-997CF6D8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325C9-1771-4F72-A273-46690D2183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