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92440"/>
        <c:axId val="36238757"/>
      </c:barChart>
      <c:catAx>
        <c:axId val="51192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38757"/>
        <c:crosses val="autoZero"/>
        <c:auto val="1"/>
        <c:lblAlgn val="ctr"/>
        <c:lblOffset val="100"/>
        <c:noMultiLvlLbl val="0"/>
      </c:catAx>
      <c:valAx>
        <c:axId val="36238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2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674-1EFA-4CA7-BCC0-06B1EC28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025-4AC8-4AAD-B147-6D084F32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E6C-AD53-4BF2-B500-5F67AA15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664-EA21-47D1-8321-7244AFF8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450-7113-415A-B97A-DAE5F9A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8DC-1F01-4224-A2A2-872E2D6C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83B-D5BA-42BA-A40F-99A7FFA6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7A9-196C-45A3-A37C-E0EFA6EE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D1A-01E4-40BD-97D5-88AE1092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E79-BEB2-4553-AE69-3CCD8A0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C60-A7CD-4622-A350-1FFD99E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E7D-F33B-4923-BF2D-2FEDA1C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9BEBA-F2DF-43BF-8337-948D8E2A4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