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14522"/>
        <c:axId val="65775804"/>
      </c:barChart>
      <c:catAx>
        <c:axId val="99314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5804"/>
        <c:crosses val="autoZero"/>
        <c:auto val="1"/>
        <c:lblAlgn val="ctr"/>
        <c:lblOffset val="100"/>
        <c:noMultiLvlLbl val="0"/>
      </c:catAx>
      <c:valAx>
        <c:axId val="65775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4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D9E-E4DC-41DB-B8CD-EBA951E8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55B-E15F-41C5-B508-C5AEAE4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342-CCD3-4BFE-93E2-FBBEC83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CFA-0FF4-46EE-A15B-19A132D3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D6E-F2E6-4F90-BDC9-CCA9891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DF9-B17B-4ADE-8848-10D28C3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B98-AF6E-4B70-A5C7-2633E222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EA2-1C8B-4152-9A40-A3F069A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2B2-DC6F-4EDB-9C37-18DBFA9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538-6011-4CC1-A786-01AC9B7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980-ABE9-4A30-AE69-B3EE581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7FD-8290-49D8-91D6-E58E247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77075-6DD1-4404-A9D5-25B03B30A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