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18835"/>
        <c:axId val="28357221"/>
      </c:barChart>
      <c:catAx>
        <c:axId val="51518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57221"/>
        <c:crosses val="autoZero"/>
        <c:auto val="1"/>
        <c:lblAlgn val="ctr"/>
        <c:lblOffset val="100"/>
        <c:noMultiLvlLbl val="0"/>
      </c:catAx>
      <c:valAx>
        <c:axId val="283572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18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71E-9A65-441F-B9D5-AEACF228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C50-D998-42F4-A1FC-DC2D7B7D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EAA0-994B-43AD-92B5-A1774003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FE38-FA89-4937-BC85-E57B1674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B807-3852-41D8-8527-C7788A39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453-CEB7-4DF2-9C24-A899EA5A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8664-615A-4675-84E9-F8DC98A2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0A31-28B9-4E2D-900D-BD73C357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439-C3F4-4B8B-B521-4A7830CD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035F-4DC5-4D08-96B9-2674323E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873B-163E-40C2-8085-6935791E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B85D-B99C-49D4-ABDB-F0A24EC6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01EC3-AFAD-4EFE-80DA-D017A8EB62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