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03650"/>
        <c:axId val="25234886"/>
      </c:barChart>
      <c:catAx>
        <c:axId val="90803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4886"/>
        <c:crosses val="autoZero"/>
        <c:auto val="1"/>
        <c:lblAlgn val="ctr"/>
        <c:lblOffset val="100"/>
        <c:noMultiLvlLbl val="0"/>
      </c:catAx>
      <c:valAx>
        <c:axId val="25234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3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3E9-99C0-45A6-88FF-CAD1490D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122-E183-40A7-A165-D154058C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0CF-D8FC-402A-A147-B2E647C7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617-22EB-4694-92FC-0088AD69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C32-8BB7-4497-B332-6ADEB47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7F7-CF16-4AC3-BEF8-F9DF3BF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E2D-C8CA-4DB7-9908-64864E7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7C4-A8AC-47C8-A0A8-C7B081D2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F5A-20C9-4AAE-9CA6-5FAEF176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65B-0520-40E9-A871-710C9F7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A1F-6245-46BE-A059-FF4A5FD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7D2-072B-479D-A347-848BBA1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5A80-D528-444E-9DF8-BC1C46BDCD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