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35835"/>
        <c:axId val="46966855"/>
      </c:barChart>
      <c:catAx>
        <c:axId val="44935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66855"/>
        <c:crosses val="autoZero"/>
        <c:auto val="1"/>
        <c:lblAlgn val="ctr"/>
        <c:lblOffset val="100"/>
        <c:noMultiLvlLbl val="0"/>
      </c:catAx>
      <c:valAx>
        <c:axId val="46966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35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FFCC-9D07-49A4-B6BB-938E3AB8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8C3A-63E8-4E73-AA86-9C116F1C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F87-F8CF-4796-AC65-514DF824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51C-6025-4ED3-A35D-F4563F4C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A91-3045-4491-AAEC-6B0E0663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095-3B18-47D0-A7CF-72940E59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42CC-CCD8-4141-B00D-B9E5763E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EE3-5998-4F68-ABCE-B5197605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DB2-B3DD-49D6-B241-11151A9A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151-F542-4CC8-87CC-E6BFA034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BA7-04C3-4C29-8FFD-9746BD46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5A7-9B9E-4631-BF4C-7939C8C4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23AAF-9EF2-4A38-9BFB-0520B61244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