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57092"/>
        <c:axId val="72872155"/>
      </c:barChart>
      <c:catAx>
        <c:axId val="87257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72155"/>
        <c:crosses val="autoZero"/>
        <c:auto val="1"/>
        <c:lblAlgn val="ctr"/>
        <c:lblOffset val="100"/>
        <c:noMultiLvlLbl val="0"/>
      </c:catAx>
      <c:valAx>
        <c:axId val="72872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57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5CB-DAFC-46D5-8247-2F34F774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E5E-593E-4570-88BE-AFB6DB4E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77A-08EF-4961-AD61-A7ACAF1C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6C3-D3B5-49F3-A733-69CCB215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A38-BC2D-434F-882D-6F9DF012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BA1-AE76-42E4-90C2-A39982EA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AA9-ABC0-4A26-8447-5600ACEB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669-848A-4E27-84C2-FE721591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7C7-A96B-4FF4-9750-201CBBF7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776-2F41-406A-8311-3C3E018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3B3-6D62-4198-92A1-3B14D64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179-DA74-4984-9448-6AAA0D3B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08688-AA14-4B89-B92C-F0F4232378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