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120224"/>
        <c:axId val="3168821"/>
      </c:barChart>
      <c:catAx>
        <c:axId val="881202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8821"/>
        <c:crosses val="autoZero"/>
        <c:auto val="1"/>
        <c:lblAlgn val="ctr"/>
        <c:lblOffset val="100"/>
        <c:noMultiLvlLbl val="0"/>
      </c:catAx>
      <c:valAx>
        <c:axId val="31688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202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E6C4-833A-4431-9E19-42F54E45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F533-D1A4-4DBC-A91A-7F4B8C17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EFCD-B4FF-4C89-9712-0A5210A2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61E-F606-4E38-A265-6E8CA40A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DD1B-B8B4-4724-965C-6BDD936D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6318-0818-4506-ABDC-89CFD868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11E5-10B6-41FB-B17C-2E318879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A2A-E843-4154-B4BA-CCEB9D6A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17EE-989C-4333-8F26-6B2562C8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E8D8-3F87-4C09-8179-A822D98C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BAB-D27B-4480-926B-DB013F57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4AD-332E-4249-A7C1-7219723B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D33C3-2BA7-44D9-93E3-47B0137A7A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