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25022"/>
        <c:axId val="75428653"/>
      </c:barChart>
      <c:catAx>
        <c:axId val="36325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28653"/>
        <c:crosses val="autoZero"/>
        <c:auto val="1"/>
        <c:lblAlgn val="ctr"/>
        <c:lblOffset val="100"/>
        <c:noMultiLvlLbl val="0"/>
      </c:catAx>
      <c:valAx>
        <c:axId val="75428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25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E8C-14E9-4E05-942F-F2E3515B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493-8C03-4D46-BA2D-09C25683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04C-8F55-461A-B910-A2EFF72D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D11-FD68-4DB3-B8ED-93A8ABCD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87F-5FC6-4612-9BE5-D3CE805D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1D6-D88E-4E68-9152-83495BFE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592-FD76-4CC7-8F45-5C94E011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001-7BD1-487B-9DC4-F553236B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E7F-8D70-4CB2-A817-E41006AA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F94-B7C9-45B1-8DB0-A2160B65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A56-9F59-4966-9463-D9DC2B8E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3C6-67FD-4117-AA97-B191495D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60303-5D3C-410A-BC47-8081E8940D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