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75883"/>
        <c:axId val="1389954"/>
      </c:barChart>
      <c:catAx>
        <c:axId val="25775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9954"/>
        <c:crosses val="autoZero"/>
        <c:auto val="1"/>
        <c:lblAlgn val="ctr"/>
        <c:lblOffset val="100"/>
        <c:noMultiLvlLbl val="0"/>
      </c:catAx>
      <c:valAx>
        <c:axId val="1389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75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18C-29F1-46D9-9DF2-A966CBE8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F14-8199-4EF6-A276-6D466590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B47-609C-446C-9291-AC4A7841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EFB-E6EC-4217-BDE0-2B6EB309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571-E8AD-44EC-920A-9C388FA8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F27-EAA0-469E-BBBF-0AD7F66E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684-694E-4E5E-857D-7C373F6B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490-D937-4797-8126-9614EB39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1DF-6F7A-48A9-B7F1-4C346F51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DBD-64E6-4633-B5C7-7DADF55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96F-C2C4-47E4-A3FA-2EA6A844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710-DDC1-4B7B-AEE7-8F1D918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AB1E0-0326-449A-8D0F-EDDB14268D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