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53591"/>
        <c:axId val="75306117"/>
      </c:barChart>
      <c:catAx>
        <c:axId val="73153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06117"/>
        <c:crosses val="autoZero"/>
        <c:auto val="1"/>
        <c:lblAlgn val="ctr"/>
        <c:lblOffset val="100"/>
        <c:noMultiLvlLbl val="0"/>
      </c:catAx>
      <c:valAx>
        <c:axId val="75306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53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82A-C772-4A36-BE0E-F599A6CC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EF2-7E89-4E5B-9C9E-D5297E98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9FA-CD29-4994-BF9A-2E9E17E2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08A-F687-4BEA-91D3-F2DBCF6C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CAF-39FE-4C0C-A977-57B310F8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719-B7A7-47C5-8850-0AE2F8CA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733-1FFF-43BC-BCD1-BBC7CDAF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3FF-819C-4E9D-8FA8-2D211B00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1F3-9154-4A5F-96B9-2E9090D8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4F8-8670-4EF7-89E5-CAAFE687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34D-4EF9-4B94-ACFE-7B46370D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F1A-5FF4-49D6-8629-C12C0885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BD8C3-154E-45D4-B3CF-88E89E76E8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