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57133"/>
        <c:axId val="81403475"/>
      </c:barChart>
      <c:catAx>
        <c:axId val="5595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03475"/>
        <c:crosses val="autoZero"/>
        <c:auto val="1"/>
        <c:lblAlgn val="ctr"/>
        <c:lblOffset val="100"/>
        <c:noMultiLvlLbl val="0"/>
      </c:catAx>
      <c:valAx>
        <c:axId val="81403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172-39BE-4D7F-9107-B1296627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8CA-B30A-422A-A9C5-6547DD7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639-FC5C-4255-85E2-15E47470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A87-27C0-4FD2-9310-02CE2E6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CE6-A475-4CED-A600-63C6968D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135-3E81-4BDC-AF67-D7DD5BD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040-3C80-47BC-8BAC-8604C01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CBF-B01E-4C5E-AE51-0FFA017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F98-E16D-49E3-A664-69A4A84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715-0922-4C72-A790-978D3A1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7AA-D889-4195-84AF-04E117F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520-9575-44FF-A1D9-F34AEC5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3B6D9-57BE-4408-9688-DADDB2AB08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