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2060409"/>
        <c:axId val="4721351"/>
      </c:barChart>
      <c:catAx>
        <c:axId val="3206040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21351"/>
        <c:crosses val="autoZero"/>
        <c:auto val="1"/>
        <c:lblAlgn val="ctr"/>
        <c:lblOffset val="100"/>
        <c:noMultiLvlLbl val="0"/>
      </c:catAx>
      <c:valAx>
        <c:axId val="472135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206040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88FCD-26EE-4D20-AF73-BD6398734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60A7B-2B16-46C6-BA19-3DCF8D0DF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E1379-E841-4EB6-94B7-9F90E2C3C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3C632-5D3F-4ED9-A0F7-8909210A0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2DFFB-92C7-4F5F-A529-F82AE83C9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E9ECE-BC2D-43D3-AA0F-2D35BD035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AE36B-DCB2-4A56-8E72-2DCB9AFA5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AC121-3618-4F0F-9010-CD01D21AC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872D2-5C17-4F62-9586-82C4B9FC4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57351-B785-4307-96C9-EFBD122D6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FA314-B16A-4858-9E20-D91520AE7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DE0EC-578E-42B8-8082-6508176BF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DEE35F-80FC-4572-B5EA-DAA974BFE9E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