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840133"/>
        <c:axId val="17016631"/>
      </c:barChart>
      <c:catAx>
        <c:axId val="418401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016631"/>
        <c:crosses val="autoZero"/>
        <c:auto val="1"/>
        <c:lblAlgn val="ctr"/>
        <c:lblOffset val="100"/>
        <c:noMultiLvlLbl val="0"/>
      </c:catAx>
      <c:valAx>
        <c:axId val="170166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8401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AF42-DB8F-4174-8364-CBCD05296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0702-C4C2-473A-B281-8DACCB6A1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AE91-EA41-4291-85E4-FB9E9954C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7C82-742D-4F05-BFB6-181C9B501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7C5A-9944-4D44-BA5C-8AD105995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1BEB-2451-43DF-8FED-1766B8964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C6D0-5494-4062-A650-DD9CD54A0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AE75-512A-4551-B43A-83B12EDCD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621D-9D5E-406E-BD6F-762CD5B55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9DF9-BAB4-411A-8E4F-F7645B02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F211-D685-4150-806C-FFA6C709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7450-5492-4E87-90D9-7563E7E4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A9E4C7-339D-4E1C-BDEC-E5A77EE83A2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