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212538"/>
        <c:axId val="53687150"/>
      </c:barChart>
      <c:catAx>
        <c:axId val="862125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87150"/>
        <c:crosses val="autoZero"/>
        <c:auto val="1"/>
        <c:lblAlgn val="ctr"/>
        <c:lblOffset val="100"/>
        <c:noMultiLvlLbl val="0"/>
      </c:catAx>
      <c:valAx>
        <c:axId val="536871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2125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2CF9-3E53-41FD-95AB-90A9ACCAC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4481-0768-4C3A-8B0E-21BCCE2F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D1C9-364C-449B-81E0-A2A186E60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33E8-9069-4D52-96BE-3ACB284B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2312-E9F9-443C-B586-5A81375D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4408-EDAD-466F-A97E-48C49BF4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6729-8FBB-433A-8989-F83D2476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D67D-E72A-44A7-BE2B-356DF529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D16F-8126-4C7F-AF03-E5791DF9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771A-D99A-46F1-AF84-6C389605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570A-5D8C-471B-BBCF-1EE2A213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1D9C-6374-40CF-A92E-A3FEB15A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DB06F-2654-4400-AE8A-9222F65340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