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5856"/>
        <c:axId val="61551299"/>
      </c:barChart>
      <c:catAx>
        <c:axId val="3095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51299"/>
        <c:crosses val="autoZero"/>
        <c:auto val="1"/>
        <c:lblAlgn val="ctr"/>
        <c:lblOffset val="100"/>
        <c:noMultiLvlLbl val="0"/>
      </c:catAx>
      <c:valAx>
        <c:axId val="615512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5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B4B-0006-4375-B0D2-6E62B94C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D34D-42CE-4F5F-A3AC-D0BC9BB8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8D4F-6596-4186-AA26-5E56EAF7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D5C-37ED-4FCD-858D-814F7FE56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BA4B-7EFF-4741-85B1-8B334AF7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D89-CCF3-49B3-9922-D5337728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44EF-0AD1-47B3-8FF9-3773D6F7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E5D5-7D21-429D-A626-401DE750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D25D-9117-4108-BAF4-22F995C8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E35-71FC-418E-8D88-F504EDD3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0ECC-2F56-4323-8DF7-1F0F3976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E28-ABB0-49D5-8B2B-8CE2D957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22795-D9C3-455B-86FD-11EF69CA1A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