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90996"/>
        <c:axId val="4432727"/>
      </c:barChart>
      <c:catAx>
        <c:axId val="47890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2727"/>
        <c:crosses val="autoZero"/>
        <c:auto val="1"/>
        <c:lblAlgn val="ctr"/>
        <c:lblOffset val="100"/>
        <c:noMultiLvlLbl val="0"/>
      </c:catAx>
      <c:valAx>
        <c:axId val="4432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90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C42-A34B-4FC5-B706-4F9E4235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542-1BC7-4AF5-8230-3CAC3315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032-ED01-4C68-B70E-B4464547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EC5-6016-4D4E-BD4A-AAEA3E8E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5E6-1758-4664-BD19-1C49C968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C24-F72B-49BA-A6AA-DF464CBA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30A-0195-4FF3-A795-6F22CBE5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2BF-D9E9-40BC-8F86-B0B0A95A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294-8E02-47DF-8148-A3A24CA8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1D2-C089-482D-BBBB-C3244C11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070-8394-4AA9-9150-E73CF6B3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DB4-E5E3-4579-9C22-888FD455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F4080-68C3-4BA8-812A-EACAC77A95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