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08899"/>
        <c:axId val="19354428"/>
      </c:barChart>
      <c:catAx>
        <c:axId val="26408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54428"/>
        <c:crosses val="autoZero"/>
        <c:auto val="1"/>
        <c:lblAlgn val="ctr"/>
        <c:lblOffset val="100"/>
        <c:noMultiLvlLbl val="0"/>
      </c:catAx>
      <c:valAx>
        <c:axId val="19354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08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5B7-0F63-41C5-B460-5D5C57A4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11B-E371-4CFC-B4FC-19EBC675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37F-E679-4D6D-8C7A-5C01E8BE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684-410E-465F-A4B4-980AD06E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B79-E359-40E0-BFE2-2B46726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5CC-5A29-4BDC-84B6-2037A64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29D-BB98-4A4C-A87B-C38E2C76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782-0A0A-48D8-B176-58E6E3A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819-973E-4B99-B5D6-040F1C0F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B04-917A-4F73-A891-FD308B8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0B2-47CD-41B5-848B-ADE62B4C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02B-2FFF-4DC0-8597-B5BBD0C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3B770-0AB4-4D28-ADB5-6B9F5CC4C9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