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220655"/>
        <c:axId val="25836939"/>
      </c:barChart>
      <c:catAx>
        <c:axId val="972206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36939"/>
        <c:crosses val="autoZero"/>
        <c:auto val="1"/>
        <c:lblAlgn val="ctr"/>
        <c:lblOffset val="100"/>
        <c:noMultiLvlLbl val="0"/>
      </c:catAx>
      <c:valAx>
        <c:axId val="258369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206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3D8-88E5-4B2A-8015-A66E0FE1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CCFF-C338-42A9-A28B-2EE4C3A4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CFEB-EA57-413B-80B0-FEDE4F61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6E87-3A65-4747-B433-938720FA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F793-1201-4DF7-A783-D72D0331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EC42-1F28-4368-98D5-0640EC4A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6B0C-D8E4-43CA-A1D5-94FAF6DA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1EDA-D27C-467B-89B2-921CD8DB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338-8836-4E7B-986C-F61B2479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190B-EE20-42C2-93D6-74578C2C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0F5C-C04B-4319-B1CE-E4FBD59E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26AB-742F-4C1F-9F1E-D2923ACF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0FB88-E668-4AA8-AF58-79F5B0A390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