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04454"/>
        <c:axId val="29499145"/>
      </c:barChart>
      <c:catAx>
        <c:axId val="669044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99145"/>
        <c:crosses val="autoZero"/>
        <c:auto val="1"/>
        <c:lblAlgn val="ctr"/>
        <c:lblOffset val="100"/>
        <c:noMultiLvlLbl val="0"/>
      </c:catAx>
      <c:valAx>
        <c:axId val="29499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044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DD6C-DA2D-4E6A-A089-893A8791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C001-1D36-4493-AE7E-94F94645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A42F-9B48-45F5-A8BD-F99FB993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5693-685E-4257-BC2B-E0FD2D20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DC7A-76D5-4585-97E1-62581565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058-F459-4B66-8743-02048CA1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4ECA-358E-4A35-86BF-ADE54A40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0E6-B212-44F2-9036-297E92C8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0AD7-3258-4B3D-BC37-AF57A7AF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1867-39C0-488C-9549-8F86A7FE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72BA-459D-44FC-96A5-F3D0FD2B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A744-4BFA-4709-B2FD-7268B0BC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A9DA6-7E9A-426F-910F-63ABC0370F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