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176"/>
        <c:axId val="53261171"/>
      </c:barChart>
      <c:catAx>
        <c:axId val="347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1171"/>
        <c:crosses val="autoZero"/>
        <c:auto val="1"/>
        <c:lblAlgn val="ctr"/>
        <c:lblOffset val="100"/>
        <c:noMultiLvlLbl val="0"/>
      </c:catAx>
      <c:valAx>
        <c:axId val="53261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DFC-3FC1-4EE1-9D25-DADDA6E8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25C-C79D-4F4B-ABBA-8BE3476B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B67-6CEE-429F-8A66-5314E879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D42-B941-4A8C-819B-9602A56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7C0-1856-4392-8032-6CCB47F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752-077C-45FC-A678-FD03690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AF7-D1CA-4FA2-B9F7-F9C4261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69B-C4A3-466F-99A5-CA22CCB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F10-3D27-4638-919A-00C7206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F7C-55F7-4ED6-B419-742023E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C4E-4D85-47F0-8638-97E5DC5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010-02C6-4C1B-83C7-C755233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D825B-C613-443C-A36F-5BE71A498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