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09446"/>
        <c:axId val="91647255"/>
      </c:barChart>
      <c:catAx>
        <c:axId val="20809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47255"/>
        <c:crosses val="autoZero"/>
        <c:auto val="1"/>
        <c:lblAlgn val="ctr"/>
        <c:lblOffset val="100"/>
        <c:noMultiLvlLbl val="0"/>
      </c:catAx>
      <c:valAx>
        <c:axId val="91647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09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70B-8FE5-4E31-B54E-71BB3AC4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5D8-237B-4BE5-8E26-7559AEA7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495-F1AC-4AB5-B9A6-013145C3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380-9941-43FA-8FC9-0AC6BDF7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8CD-5777-46F0-96BD-18528CE8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739-DC1D-4375-BB79-4364EA90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CD5-6366-45EA-964D-9DE6B756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94C-B274-4293-8A40-D9CEE858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487-16A5-4982-BEF0-325C93BD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50B-C17C-46DA-BE89-7B534487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FC0-CCE1-49F0-A417-605540EF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8BB-557F-494A-AAA1-3F9DB79B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7F21D-8103-4628-BB6C-4A8D58F8B0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