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48332"/>
        <c:axId val="65473381"/>
      </c:barChart>
      <c:catAx>
        <c:axId val="26048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73381"/>
        <c:crosses val="autoZero"/>
        <c:auto val="1"/>
        <c:lblAlgn val="ctr"/>
        <c:lblOffset val="100"/>
        <c:noMultiLvlLbl val="0"/>
      </c:catAx>
      <c:valAx>
        <c:axId val="65473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8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64A-6D69-4942-90C3-1EBA9DF4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A78-4D63-4CF3-B9C3-CE1C89B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1F8-DAF3-4703-B688-B1DEA9EB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505-513B-43C6-86B3-DBE8CDB6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004-0FF3-4197-BB0E-609B69D4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8C7-1672-4D82-A183-44CED3AA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1E9-6A03-4ADD-A70E-2FB9A95D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03D-52E9-4DA5-A4F7-F1FC29A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706-30BA-4B38-B1DF-FE379297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C77-630D-4689-8691-2CB429E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151-8DA0-43BB-BAF6-A212C32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E56-8608-496A-A3E5-D98A748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BA8D9-1F2F-4CB8-8DE8-CBE620B188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