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2681"/>
        <c:axId val="1534882"/>
      </c:barChart>
      <c:catAx>
        <c:axId val="71582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882"/>
        <c:crosses val="autoZero"/>
        <c:auto val="1"/>
        <c:lblAlgn val="ctr"/>
        <c:lblOffset val="100"/>
        <c:noMultiLvlLbl val="0"/>
      </c:catAx>
      <c:valAx>
        <c:axId val="1534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2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629-E245-4306-B45C-9235BABE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6AC-643D-4557-A784-C61930F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D08-44C4-43AE-A843-0BA59B9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E94-36D2-4EB8-BCE0-7663EA4F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1B7-4578-4129-B7FD-024D541C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AB6-BABF-42D9-BFAD-392C344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F4E-C277-4D3C-8412-B7D7BB67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0E6-2A41-415E-83E9-F440B860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75C-24F3-444F-9111-3CFD04B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268-4AE0-4DAF-A2E8-EF268EF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189-CCD5-484F-9FCA-C1E593D8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E88-C891-4AB0-A43B-04140F1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59410-2D5C-469F-AAC6-1E9FE31D6B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