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77947"/>
        <c:axId val="47818459"/>
      </c:barChart>
      <c:catAx>
        <c:axId val="28977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18459"/>
        <c:crosses val="autoZero"/>
        <c:auto val="1"/>
        <c:lblAlgn val="ctr"/>
        <c:lblOffset val="100"/>
        <c:noMultiLvlLbl val="0"/>
      </c:catAx>
      <c:valAx>
        <c:axId val="47818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77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D58-F8E3-4DB7-86B9-9FE04A4C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2BA-857F-4AB6-A5A0-421CD0A4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0F3-8A76-4F53-8F6C-39948E65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914-AC7F-471C-B70E-3E71B40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D72-2883-4960-AD3F-7509CA44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1D3-D27D-4BB7-BC8D-AF6BC82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484-5967-40B8-B727-FBFD93F6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22D-A5A0-44C0-8458-A576612D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725-EE6A-4791-B309-BB1AAD4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A02-3A14-4DAB-B1B4-3FDB3B5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44A-D9A9-4AD5-81E3-4C4F0ACC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FEC-1DE3-46A7-9386-CA31F4D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CD340-D721-4315-BBF4-5F67F4797F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