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69130"/>
        <c:axId val="78600335"/>
      </c:barChart>
      <c:catAx>
        <c:axId val="11569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00335"/>
        <c:crosses val="autoZero"/>
        <c:auto val="1"/>
        <c:lblAlgn val="ctr"/>
        <c:lblOffset val="100"/>
        <c:noMultiLvlLbl val="0"/>
      </c:catAx>
      <c:valAx>
        <c:axId val="78600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9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EC4-BF35-45CA-BC20-25C02B7D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0DC-E178-46E5-8E66-9729AD76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2F9-A9A7-4378-AF63-AB91BFDD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2D1-DCEF-4C19-91D5-B4A49BDF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002-3147-4F1D-8317-7CC7F89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24F-C547-407E-8C89-41794103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14A-15F4-40AD-9DEE-5E7961A8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7C4-0207-4324-915B-96EA517C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C33-0530-4118-A896-986302C0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3FE-04CD-4160-92EE-80DD4A6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ED0-266C-4F2B-ABD0-89AF8B7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E41-42BD-4305-B5DF-B90BA00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AA8A2-89E5-43C5-87F9-8161040F0A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