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08346"/>
        <c:axId val="25545261"/>
      </c:barChart>
      <c:catAx>
        <c:axId val="2820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45261"/>
        <c:crosses val="autoZero"/>
        <c:auto val="1"/>
        <c:lblAlgn val="ctr"/>
        <c:lblOffset val="100"/>
        <c:noMultiLvlLbl val="0"/>
      </c:catAx>
      <c:valAx>
        <c:axId val="25545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0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C4F-A38A-4C3D-A5BE-E8561756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8D0-FE23-40F7-8117-7027349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DC9-9298-4C34-B359-2433A7C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BEC-8CA6-4E5A-95B0-80FC0A0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4F6-74C6-4B0B-9DB0-C54F47C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64B-BFD2-4AE3-B7C5-9816D2E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0D1-A83A-4E38-961D-846E56B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9B0-5218-4FFC-A02D-398E954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151-6C81-446F-A58B-1E5E4AB7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FEE-5EC6-4BD1-A6B6-9A9EC12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7F9-D495-4926-BC2A-D11EAAF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347-DE1E-44E5-B058-9EBFA68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5A92-AA92-4ADC-A664-07EF33C499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