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36780"/>
        <c:axId val="98127588"/>
      </c:barChart>
      <c:catAx>
        <c:axId val="72636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27588"/>
        <c:crosses val="autoZero"/>
        <c:auto val="1"/>
        <c:lblAlgn val="ctr"/>
        <c:lblOffset val="100"/>
        <c:noMultiLvlLbl val="0"/>
      </c:catAx>
      <c:valAx>
        <c:axId val="98127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36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5D0-998C-4400-9C2B-F1C1CF85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5BF-89BB-4FAB-879A-90D75A53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F17-142C-4B9D-85D9-9EEF6B46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2EF-C4E6-44CB-9F9E-99E6345D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9D9-129E-48C9-9ACF-90F826C0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040-FB13-4A83-8EAC-FE0D5EC0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24C-E656-43D4-A6FB-7FD75C65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B8B-B97C-4AC6-AB63-7BE20B0F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BD0-B9F7-4AEF-837F-C68CBD96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6A5-6606-4C1F-A5E2-C7F4FC92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840-00A6-45F6-B841-F602DDDF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8A8-504F-43BF-A80E-0039926D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FD374-78CD-46EF-9C89-C125EEDCA8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