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79654"/>
        <c:axId val="3093056"/>
      </c:barChart>
      <c:catAx>
        <c:axId val="63579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3056"/>
        <c:crosses val="autoZero"/>
        <c:auto val="1"/>
        <c:lblAlgn val="ctr"/>
        <c:lblOffset val="100"/>
        <c:noMultiLvlLbl val="0"/>
      </c:catAx>
      <c:valAx>
        <c:axId val="3093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79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3D8-5F44-4E71-BAEC-B2A02257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287-E8A9-4E38-99F2-88A3A31F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181-28A7-47D8-8A9D-DDF5F3B2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B45-EC12-4471-A224-BF1279B4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D41-82F3-489E-A8F2-30ED3F52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8B1-AE78-4C83-A728-AB66CB52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0D8-F2C3-4691-9E60-79F59766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7A7-7398-4289-B6C5-E9E33F3A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9A0-0398-49F4-97E8-2BB83AE3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41B-C032-4745-9539-919B6641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3E9-107C-43AF-B0AD-63A8B1C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97F-43FB-4F38-A4F5-44FAB588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DF48A-FF19-426F-8B48-E06D55A2ED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