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09109"/>
        <c:axId val="36457689"/>
      </c:barChart>
      <c:catAx>
        <c:axId val="25409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57689"/>
        <c:crosses val="autoZero"/>
        <c:auto val="1"/>
        <c:lblAlgn val="ctr"/>
        <c:lblOffset val="100"/>
        <c:noMultiLvlLbl val="0"/>
      </c:catAx>
      <c:valAx>
        <c:axId val="36457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09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706-DFC1-4035-8B94-25DA23D0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726-FED2-416E-B07C-F660E8E8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602-CCD3-4D62-A5A2-29F06AAA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4EF-C94F-4D41-B551-4CDBA00F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D41-9778-4C1D-9F96-333A636D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8A2-9CB9-41D4-889E-BE916CB3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092-A619-4A11-B1C9-277BD95A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DDB-71B3-4E3D-A463-92CA847C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376-2321-4AF5-8342-BAF10F3F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B3F-835B-487F-80FE-752563B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5D9-E573-47E8-A500-3ECC007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B77-F3D9-485E-AD88-04A821BB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C696C-E409-4CF6-84C8-0CAC84260E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