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86216"/>
        <c:axId val="3841633"/>
      </c:barChart>
      <c:catAx>
        <c:axId val="88086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1633"/>
        <c:crosses val="autoZero"/>
        <c:auto val="1"/>
        <c:lblAlgn val="ctr"/>
        <c:lblOffset val="100"/>
        <c:noMultiLvlLbl val="0"/>
      </c:catAx>
      <c:valAx>
        <c:axId val="3841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86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10C-129C-4972-A209-8E5FB1C8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7D3-3C52-4376-93DE-98160FB2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EAA-CBDA-455C-9CB4-2F693F6A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DCB-6127-48C5-AAFA-929C31ED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E3B-D76E-431F-8AC2-A2DD3E58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2B3-0D3F-4EBA-B99C-FE5D2F70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B7C-0CFB-4677-9EEC-1BD294C9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BB1-9240-4ECF-9D65-7DF99AC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684-A3A4-466E-8B81-F9FD9BC1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53D-D1FF-4EF1-A6DC-EB963C4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D3F-3A91-4F3E-B1E7-1412C971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4DE-33B7-40FF-AB46-7EDBEFB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6FBC9-56ED-44D0-8963-D42E80F57C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