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67129"/>
        <c:axId val="173484"/>
      </c:barChart>
      <c:catAx>
        <c:axId val="99467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484"/>
        <c:crosses val="autoZero"/>
        <c:auto val="1"/>
        <c:lblAlgn val="ctr"/>
        <c:lblOffset val="100"/>
        <c:noMultiLvlLbl val="0"/>
      </c:catAx>
      <c:valAx>
        <c:axId val="173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67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516-F839-4517-8B38-F16C86B5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D86-3DEA-4883-BE23-58752533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680-902B-490C-90D3-296D1337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BB5-DC74-4196-A45D-20ACBDBC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FA4-D0F6-4B5A-84A7-9071C3C5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9F9-EC84-472D-B0E9-8DEA8657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165-5EA0-4536-A70D-AB221A24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5B1-6281-4F07-B488-441DCAD2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B94-B148-4A89-9FB3-4F4B9C81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8A5-562D-453C-8BFC-62FD3FE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9ED-41B4-40C4-801C-FEC91698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ED8-3500-4B89-8DA2-F548AFA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B3C17-4A1B-44D5-ABCC-89191F97AE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