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13271"/>
        <c:axId val="56317064"/>
      </c:barChart>
      <c:catAx>
        <c:axId val="34213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7064"/>
        <c:crosses val="autoZero"/>
        <c:auto val="1"/>
        <c:lblAlgn val="ctr"/>
        <c:lblOffset val="100"/>
        <c:noMultiLvlLbl val="0"/>
      </c:catAx>
      <c:valAx>
        <c:axId val="56317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13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D37-193E-4D91-8FF9-BB2E57FD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D67-5805-4AEC-AECE-B080C2D1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0AA-BA3B-4F19-A6E5-9E6ABD0C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A75-F0DB-42B8-A7F5-98C70F6A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A59-67B8-42E9-A57D-4A39590A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3BE-8145-45D8-B8B5-2461D235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7AB-C6FF-4AD9-BB86-A060722D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2BF-6311-416A-ACB2-02558E0A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C40-6985-4D9B-BF75-AA23A425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5A1-C55F-4DFF-9DB3-76E2F5BD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DA3-50D0-493F-BFAB-83CEE7A5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926-2A3B-4897-99A7-B855833D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CDAD2-C2B4-48A8-A3A2-8D2BF34407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