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23593"/>
        <c:axId val="92785695"/>
      </c:barChart>
      <c:catAx>
        <c:axId val="31523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5695"/>
        <c:crosses val="autoZero"/>
        <c:auto val="1"/>
        <c:lblAlgn val="ctr"/>
        <c:lblOffset val="100"/>
        <c:noMultiLvlLbl val="0"/>
      </c:catAx>
      <c:valAx>
        <c:axId val="92785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23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1A5-94BF-467E-B693-0FE064E3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D51-473F-4964-8A5E-46659CDE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12C-C323-495D-B65D-45AF93D9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7FF-BDE9-48B0-A2E4-ACEA1F7E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B03-B4E8-4844-860E-66A296A3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369-C5D4-4DDA-B090-77AD178F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1C1-BE91-45D7-A2EB-8BBF4F47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5DA-4598-4028-9CBA-8C2E5E19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A7B-4E5E-4FDB-8727-0B8AE04B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45F-710D-475F-8A03-CF9D313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24E-76A2-46DB-B509-F80DD02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3DE-50DE-486D-AC52-FE361EB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FCB42-4AA3-4BDD-8C06-B099794E0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