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437412"/>
        <c:axId val="4447497"/>
      </c:barChart>
      <c:catAx>
        <c:axId val="264374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47497"/>
        <c:crosses val="autoZero"/>
        <c:auto val="1"/>
        <c:lblAlgn val="ctr"/>
        <c:lblOffset val="100"/>
        <c:noMultiLvlLbl val="0"/>
      </c:catAx>
      <c:valAx>
        <c:axId val="44474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4374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C231-39A5-4BBB-AE94-D0866CB60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FC59-88A1-4F97-9676-D04546109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7140-B8EA-461F-84CD-438007862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7648-4A3F-4D4A-AC0D-B8E697872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6551-40B2-405B-85A5-2FB1F1FE0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4538-37B4-4D96-B571-851DA2F4E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F64E-C442-495B-A3FA-2925FCDB4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CA03-3C3B-4661-ACF8-66D39589F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376C-1721-4107-8CE8-4E24DD99A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5747-4856-4EBB-A072-E2D343A9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6689-5034-4E15-997D-A048E400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750B-0A07-4581-8C48-AC99E7A0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3958BC-DB28-4495-8D46-8473E7312B4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