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75892"/>
        <c:axId val="28735399"/>
      </c:barChart>
      <c:catAx>
        <c:axId val="93575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35399"/>
        <c:crosses val="autoZero"/>
        <c:auto val="1"/>
        <c:lblAlgn val="ctr"/>
        <c:lblOffset val="100"/>
        <c:noMultiLvlLbl val="0"/>
      </c:catAx>
      <c:valAx>
        <c:axId val="28735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75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E56-2595-4503-87B5-FF10ED49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552-27B1-4D24-96C1-BD4697C5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FB8-CC7B-4D71-9838-88E6F65F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4B3-E5D2-482C-B6AD-2E3C533A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024-5CEE-484D-AF82-D56574C1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92E-1A66-4FD6-96D0-5FD59371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82A-F66E-45B6-8922-E0AAA521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A65-A6E2-4DF4-9A2B-9271D71B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485-A813-4379-9DA0-BB25D92B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613-7A70-4E80-9175-A060E373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6D1-752F-4007-8DF5-F4C07FFA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E97-248E-409C-A751-F2925E84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74484-A356-49C7-83D2-67463E8728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