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1235"/>
        <c:axId val="25201998"/>
      </c:barChart>
      <c:catAx>
        <c:axId val="4011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01998"/>
        <c:crosses val="autoZero"/>
        <c:auto val="1"/>
        <c:lblAlgn val="ctr"/>
        <c:lblOffset val="100"/>
        <c:noMultiLvlLbl val="0"/>
      </c:catAx>
      <c:valAx>
        <c:axId val="25201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1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64F-7F13-4254-A2D3-3826F590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ACA-C832-4BC5-B57B-A6E8F442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C8C-DAEC-409E-A902-AD90D76E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12F-9CBF-4712-AEF2-E1E95198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CE7-A445-4852-AC70-78B001E2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6AE-367C-4584-979A-C95FA96E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BE6-CBAA-4FE7-94F4-F53618FC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CF2-C692-4515-BE77-5C25BC5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4F4-9BA3-4698-9942-D6EC923B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1F0-6CBF-42F4-AE28-D2F15EE5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1C8-DAF9-4C3C-BE5F-6C1102B2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991-DDAF-426E-8BB0-8B55864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F3CD7-B8B2-433C-9E3F-38C77796AD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