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0005"/>
        <c:axId val="92317976"/>
      </c:barChart>
      <c:catAx>
        <c:axId val="8390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7976"/>
        <c:crosses val="autoZero"/>
        <c:auto val="1"/>
        <c:lblAlgn val="ctr"/>
        <c:lblOffset val="100"/>
        <c:noMultiLvlLbl val="0"/>
      </c:catAx>
      <c:valAx>
        <c:axId val="92317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40D-4D59-4D22-90E2-7B077761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45F-BD3D-4C3C-90DD-3F7053D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4EA-F400-4C6D-A234-5AA545C4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AAE-3CB4-4FBC-BD2B-D315CD3E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C23-DA24-4BD2-A22B-999BEB2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177-0516-4CA0-B362-7056D95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B4C-586A-4AC5-840A-4E6AEBA2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AC9-AB1C-471A-B9AE-F672E7E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45C-3787-4E7B-A090-FFC931E4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12F-D302-461F-A257-C4536A9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B15-7B6C-4E36-B881-A8A734F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8FD-BAF8-40AA-95CC-14F4E97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88060-B5C1-4DB3-9860-D071833EF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