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84495"/>
        <c:axId val="30084927"/>
      </c:barChart>
      <c:catAx>
        <c:axId val="46084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84927"/>
        <c:crosses val="autoZero"/>
        <c:auto val="1"/>
        <c:lblAlgn val="ctr"/>
        <c:lblOffset val="100"/>
        <c:noMultiLvlLbl val="0"/>
      </c:catAx>
      <c:valAx>
        <c:axId val="30084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84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153-DCBC-48A1-8C68-8C9E9A06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CE5-2FE2-4C53-BF2C-EB9116D5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A859-3E77-4ACE-888E-96F4C4B5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7F5-34C3-4EEA-BC18-E52CBD9F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7B9-E1FC-4C64-8E36-9D720D66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A9A-587B-474B-A193-CA936017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A4C1-3752-49FD-929F-7EF2033B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AB1-267A-4219-9617-136DF2A8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1DE-4490-4EF3-976B-9A5323EC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53A-3959-484E-8097-9C87D357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733-222C-473F-A8E5-92360FC9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857-3C73-46CA-9F55-8C0E9DAC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5F199-6C04-4167-BD82-AE1F69F70D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