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0B4B-B721-4484-BB33-2F9BD57BC3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3221-2427-4E5D-B47D-E4A5F620E7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7423F-CDC8-4D39-B6B6-BD7CC3C7E9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D29E4-AE49-4782-A51C-6202537F3D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7B2E1-3ECC-443C-B6BD-83B861EE3D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F6F03-6A45-4C77-8E7C-E48021FEFC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66693-04AD-46BB-8F53-827CAD5B8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0C3B-8E85-4651-8957-A9CF4200B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B574F-D866-406D-898D-CD5C317C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C3C7B-1890-45EF-B0C6-DFA1B9303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A07E-42E6-40D7-9451-20D4870A2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C276-6454-4530-ABBE-4B89048F9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B9214F-162B-401C-990E-8700255F68D9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609480" y="152280"/>
            <a:ext cx="3675240" cy="80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609480" y="3049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TestDocs\Test\single\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09480" y="6858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work\analyze\resu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609480" y="9907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Analysis Results 18.11.03 debug3.x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480" y="137160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results.xl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09480" y="185256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09480" y="2281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480" y="267660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609480" y="3181320"/>
            <a:ext cx="8001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609480" y="364824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Tr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609480" y="41911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C:\Documents and Settings\Administrator\Desktop\doc analysis wizard 0.2.0346b\resources\eng\analysis.lo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4648320"/>
            <a:ext cx="80010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3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  <a:ea typeface="Arial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LocalizeParam_Target"/>
          <p:cNvSpPr/>
          <p:nvPr/>
        </p:nvSpPr>
        <p:spPr>
          <a:xfrm>
            <a:off x="611280" y="5157720"/>
            <a:ext cx="8064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C:\build6\migrationanalysis\src\scripts\sdf010404.sdf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LocalizeParam_LangList"/>
          <p:cNvSpPr/>
          <p:nvPr/>
        </p:nvSpPr>
        <p:spPr>
          <a:xfrm>
            <a:off x="684360" y="5805360"/>
            <a:ext cx="73436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01,33,34,39,46,49,55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31T09:47:54Z</dcterms:created>
  <dc:creator/>
  <dc:description>Version 2.0.000</dc:description>
  <dc:language>en-US</dc:language>
  <cp:lastModifiedBy>dv93816</cp:lastModifiedBy>
  <dcterms:modified xsi:type="dcterms:W3CDTF">2008-10-06T10:51:53Z</dcterms:modified>
  <cp:revision>313</cp:revision>
  <dc:subject/>
  <dc:title>OpenOffice.org Migration Analysis - PowerPoint Driver</dc:title>
</cp:coreProperties>
</file>