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CC9877-9359-4AC4-B848-045076474B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00402-D32B-401F-B435-797799B56F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8B742-63CB-42EC-8956-AB25F6951C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D99F0-5128-40F6-AAFD-C1AA81240E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E2C92-7C04-48D0-B834-EA1DF8E65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5E3D0-A5A1-4906-8AD9-FAC61C26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62E18C-ADE5-42FC-B633-B791F58BF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9999D-9720-4489-89D4-D0A85B0FE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02A6A-F775-4722-B5D9-FCFDD55374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DA39D-D421-48FD-B547-B7E8B9E11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D5BD-345A-4BB6-912C-BAC9044C7E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A0A6-4720-4DBF-88F2-D8465C1D5D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9E3426-FFCE-40BF-B6C4-8D3E60E1766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9-02-23T08:43:09Z</dcterms:modified>
  <cp:revision>314</cp:revision>
  <dc:subject/>
  <dc:title>OpenOffice.org Migration Analysis - PowerPoint Driver</dc:title>
</cp:coreProperties>
</file>