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70269"/>
        <c:axId val="99161900"/>
      </c:barChart>
      <c:catAx>
        <c:axId val="31470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61900"/>
        <c:crosses val="autoZero"/>
        <c:auto val="1"/>
        <c:lblAlgn val="ctr"/>
        <c:lblOffset val="100"/>
        <c:noMultiLvlLbl val="0"/>
      </c:catAx>
      <c:valAx>
        <c:axId val="991619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70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639D-EFAA-47F0-B724-9C09DA98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D28-D182-4BF4-ACA7-26105B08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7EC-FFD9-4A60-AAB0-4CA1E227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5BF-427B-42A3-8DEB-6CA82F07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8B7-2997-4F9B-BF4D-E1B0D67A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D5A-3ACE-47FD-A6BC-8541566A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6DC1-9C4F-467D-A69D-9BE6AACE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C9E-157A-411F-A402-2D58D201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6E3-34DE-43E1-AFAC-30C7F05A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1E22-88C4-4757-BAB2-83C8CE7D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3BD-0A4D-46FF-89F2-FDC0E70F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B14-9B43-4439-8680-E71A6527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04D97-88FE-4EFE-BD38-6D8F99E430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