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92300"/>
        <c:axId val="73355179"/>
      </c:barChart>
      <c:catAx>
        <c:axId val="96992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55179"/>
        <c:crosses val="autoZero"/>
        <c:auto val="1"/>
        <c:lblAlgn val="ctr"/>
        <c:lblOffset val="100"/>
        <c:noMultiLvlLbl val="0"/>
      </c:catAx>
      <c:valAx>
        <c:axId val="73355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92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04F-39B9-4B3B-AC2F-FD840025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7BC-2410-431E-B3AC-D125E5C8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13A-65D5-49CE-B393-AE182B87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F80-AC7D-47DF-99F2-CF97B652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C63-D48E-4AA5-87E1-F8C8655B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1AE-F07E-4475-AD20-4041C715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479-1026-4479-AD62-B924A76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B36-F802-465A-9396-F0EF63FC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AE9-1967-4B36-BDFB-0AF0BAFA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575-1AA8-4874-BA03-41EF6BF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234-818C-40AC-AB96-C5E32D47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9E4-588D-48D3-8DF1-CBC35103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BED13-C7B2-4CE8-BBF3-6646AA29C4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